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1A6C-0134-4073-B644-F42ACF25318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9F11-6FC5-4B08-88C1-EC22977B7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A87D-BD0B-4739-A37E-40A40AA7D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0898-009A-4EF5-8F4E-152180C92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8B79-F898-4164-9D38-BE61DCEDB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7446-B06B-437E-8F08-096CEE625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7281-153B-4F92-86E2-5479D68C5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2C30-F70C-48F7-A274-C4E389E86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F84D-7B7E-4452-9AC8-F900951E2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5077-3E8A-471B-9820-BF3C744B9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D401-8B14-4CD7-8CB2-B0B4365F2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78C8-35D0-47F5-B755-44ED7514D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2790-8088-486D-8284-D9E04FDAE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94E6-0129-4C7E-A85A-F796F241B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5410-CA63-4BA3-9074-0ECFE86E2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E704-76CB-4B06-AB93-DCD364328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4BD0-18F4-40A8-B89C-09E13845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1C6F-E9EC-4620-95B2-63A16E97C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5CBC-A42A-403A-BAAA-A04E6A536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E188-817F-4E1D-A476-84ABD2AC7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1316-D598-4F90-8F7F-006542E78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7148-B081-492E-8A18-92B531C0D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4455-7163-4370-B304-2462DF0F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6EEA-469F-4F04-B392-7EB655648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9AAC-77F0-48CC-AE66-D71A8C668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F64A-84DE-4167-B4EE-94C4F23EA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1016-A85E-4541-8581-D840705F3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8918-96D2-4C48-A7D3-0CF96C9F6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D397-8AB5-449A-9BFF-5FB02BE0C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0AEA-0710-4429-9B00-3140D45B8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B9A1-E5AF-4623-98A6-579A7FBD7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9954-09C9-4E08-9839-6C931623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F857-D303-4E16-965B-0D787A9AD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705D-CAFC-42DE-BA44-76483B4EF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B761-F693-4746-8B16-C5A7421A1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C29F-A146-4337-A445-A9987F6EB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2A9E-184F-47A3-B7F0-9B4F1582C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489D-ACEF-4FCB-A3C3-52A2F0AFE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A01D-C193-4CD5-AAF7-FF0B04DC9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406D-8469-495D-B8F6-923D60732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9EF6-2777-42EC-910C-C383D628D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5AE7-F8C0-4804-AB32-B0B777792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5BB7-4128-4637-9FE8-8123C1486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BDBB-E999-41A3-BF73-3B42BBF00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25E-B946-4EF4-B3D8-3B9707137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0C30-9727-4408-8894-2E6FC1E94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2AFE-8E4A-4D3B-B8FF-7D1E21A51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52C8-EAD9-4019-905B-C73CFF43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9D55-FB69-49B0-81D5-D70DEB528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9785-8DEC-449E-B8F3-987C008E6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7486-FBD0-456C-A8F9-C182C47FD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FA85-4D53-4B3D-BA36-204EADE79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071D-07EE-4848-92E6-0FE856B1D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9E85-FA06-4F57-B006-93482FFE2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5697-5FA7-4850-9377-4E59F851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8525-EF57-4527-B108-F718F19FD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07B2-C1FA-478B-AF82-12514CBA3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34AA-0721-4280-B43E-9708E76C4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4FF3-27FE-47F4-8B94-4C95CE2E9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3A6E-E193-42E3-8F55-06B1C79F5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A406-4784-4E44-B849-8BC3288ED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E35D-400F-48B0-BA6A-27ADA1AD6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0A2F-53A6-44C2-8EC2-C882B4CE3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3FC2-0CAF-4E4A-AD73-EEA17612C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5F94-23D5-49DE-A8C9-5A8CACEC8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EAF3-7432-4F87-8A11-1A9CB150E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DE76-7986-4112-BA1F-12BC0FD13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E2C2-6140-4E2F-A7E6-0E9EBFFCD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BE92-1CD3-4E07-8D60-D34E52679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9AD4-A5EF-4745-BE27-B0B7E42F0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C41A-0135-4092-A2B2-AAFD021B3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5D76-88CD-410B-8C69-A35B1F2A0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1E27-1F65-4DBF-A16D-08A4079BF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787F-4CC6-462E-BCE7-8F0C751C0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44D2-FA2E-4A88-AF53-4AB10215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701A-001E-43BE-B9CC-FD04F504E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4D4E-2BB9-4C80-9648-AFADB730D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AA63A-47E5-4224-8242-F9417990E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E388F-0ACB-4875-9362-C70520899B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CB915-F134-4B56-B537-B4F348028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BFDDA-4E5F-45D1-A23C-9B4084763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4447D-7F2D-43EB-84BC-860D2B0FC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455E2-8EF7-418F-A5F6-64934531E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81D03-0B05-40EA-8975-8CFC02791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FAFBC-387D-4189-84EC-3F41DB6F9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796C51-9123-4BA7-81D1-E435014BB5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63F672-EAF0-4C0F-A830-8E99DCAF1E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252AA4-1373-4C25-B1F9-5230DBB640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7D56B-5230-47F0-9F36-2C55E63A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1BE1B0-EF16-4B5C-9BC0-1551E96CB4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BCF4A1-1A7C-432E-AA07-B91513FE08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0E67EB-317A-4E59-A353-81280EA4F3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BDCBD8-CDF1-483F-89A2-9BCA298C5B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D00CF4-D9E5-489E-9EC7-C9C8E9969E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AE5E2-3C97-4A4E-A6D9-FB0DE4F1BC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15BD7-A76C-4F32-AA1B-42649D4F99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7E2585-6BFA-4F96-BB3B-9F70BCAF0A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8CD8B9-E992-4E6D-BFE8-4B309B02E0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1C6E0A-1B5E-4191-8CB5-F0C6DD950A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6A65-3645-47CA-B3DC-48879AB36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AA7F67-03AF-40DA-9BB9-A14227FAB2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83CAFE-17D4-4271-8431-F9255F8673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8F6AFF-CB28-4C58-AA9F-273CA9A8C1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7F55DA-1A89-4413-80DE-21CE73AEFC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879AB1-AF3D-4110-B432-12849F3E7B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583D63-7A2F-4386-BE99-C285C468DF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892BA9-24D9-4CFD-9DF7-802F084D02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D32386-3D15-4CA6-9B18-20D76CD925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A8FA9B-C2C5-402F-A582-75A66D55B5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B64286-A65C-4806-918D-D899B70B9B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4E74F-8711-4AB2-A836-ACF92527F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15755-C456-4929-8984-B61C6CE3D5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533278-ED52-45D9-B870-DFD3B5EF20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2830EF-6E0F-4F22-8F01-BAD25519A5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33A3E0-5B1B-4A2D-B6D3-FEAB146218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8D780A-0142-412B-BC12-5E5B6EC05A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A8A0C0-AD4D-4668-9D25-E443CA73E7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ACFDA2-4877-434D-B695-AFD85B46DF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A72836-DDED-4139-A705-899E968D69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F88A7C-F094-4B0F-80E9-C54C3F3A37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126B3F-51D8-41C0-8030-72FF27C593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C2D26-2335-4916-9A57-BC904009A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184EA5-C212-4D8C-9380-9ED45B3B49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B4FC73-440A-4CF3-A0BA-81BCBA210C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156E03-1E22-47D7-968E-6479C8BE30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F985CD-5FE9-4D7C-92BC-DE6B734153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37A6B6-A711-42E1-9B59-DBCF63E595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36EACE0-C84D-4BBC-BD0D-AFDB34E7C5B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638DA2A-C120-4A40-864E-087A34B63B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576DEEC-CF7D-4328-9100-86124B8288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CE8EABE-A182-4280-A539-C2AB3D7BA7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EA4E61B-0970-40E2-8711-C4113D3823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7E81D-43C9-4EDE-B14D-6DD5BDEC3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DFB6738-501B-494F-A219-D3A85D2B06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C0C42C2-F0AB-47D2-8B15-2C0D5E0681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E787F24-BC52-4610-A931-CE1E35E998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AE304EF-C3B8-4D1D-9B9C-4D60B30EE6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93EA6CD-8556-4B8E-946F-F0F58BB2B8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F1DC933-4D95-4860-BF5A-4F141A6C1D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E1EE93F-B2FD-4BFB-BDE5-7D732E268AE1}"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88FBB-F316-437F-8F01-9F0024253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30962-04D4-486D-9785-00B9D09EA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393C7-9728-43DF-B71E-E048E68D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A8F7-2254-4E12-B90A-96CC4EAEE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E8E92-2426-4CE0-BDA9-EB7712AC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D2DCE-1BD7-4893-AF18-D79D65BB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63A0B-964F-4EF1-8A2A-DD5D0CAD5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74BD2-4791-4D11-A73B-2147E1652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2A569-22CB-4C99-B65C-8A08CCF0D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C5698-CA61-4678-8192-65B9FE82C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75B31A-0342-4D86-B9DE-C28B098F3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91EEC-D798-407B-90BB-1798646F5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A84BE-12C6-497F-9FEE-CB752CDFE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A79FA-6E30-4CC8-A464-24604D8F0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4A7F6-E8D6-4948-A019-A31AD8508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E67C-13DA-49A4-A4B2-DFA999B8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05B4C-C9AF-4A8A-9B19-E08B96184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1FF1B-7C18-479C-B286-255FBC20F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089A8-B127-4B8E-BFC9-C1B669E6C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570FE-F5D9-4837-AFF6-32B92F6DC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53AE3-3F60-4ACC-804D-D5D81B180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BAFECA-887A-4B65-BE6E-467AD86E1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3873C-10D3-4A5D-BF1B-39FF12464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F4E55E-4F42-423A-89E7-93FAF21D7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4E6E4-1649-4EF0-9AC7-12E93B7BB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14ED6-0784-42B5-8467-AA681D0AB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960A-804C-4407-BBE4-2EA2F27B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853CD-3F18-48CB-B198-DD60131DD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1CD94-70E2-4F88-AEED-E07ABACE1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6ED0E-E48E-4241-98C7-5B82EF8EA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238B9-0346-4BBE-BC96-F4C7C0DD8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A5EF3-6599-42AA-8BD8-E0C76A260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481B3-DD8B-42F8-B4C7-D1DE02E0D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2B870D-ACF3-444F-A17E-05C2A5E0E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147B7-D852-455A-98EE-98660FE05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4E234-F015-4C5F-A9E5-55BDB0B27B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92C91A-8FB6-47A2-B7BB-1E3793F95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CDA8-F4FB-4413-9926-66ED56DA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84E881-E7CD-4D43-8EE8-380A89E93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EC366-14EC-4FE0-9919-30832E524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1DB58-4CEB-451D-A7C4-0451EB983B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DAFEE-8251-49D3-B708-A3C38397B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8B4EE-BAAF-49F2-BA27-92A79F331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E493D-D4E6-4979-8558-2A4C07913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2D202-FE08-479A-82CA-B73B0181A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62447-8E44-4EED-A5EA-7CD7D1DA6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1FB9E-9AEF-4F8E-893D-F9EA36998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E9B9CD-1CC5-4B04-B981-8B1417AC91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F079-E8BF-4EAB-8B9A-DC49683E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82133-2E0D-4EDE-B23C-B496B08C99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B0E27-5274-41AA-8D70-8E8874490C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749C0-72CD-4893-A184-F63512A03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2E72E-24AA-40C8-AF4C-67CDBA3C2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60983-473B-4181-AE98-5D03DDB1D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710DC-C093-4631-91CD-08570F5B3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9E6828-025C-4F58-8707-DF545A7A79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9B617-3681-4B50-ABA0-B337200D2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47B89-0185-4DCB-ACCE-9D3F3F616F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56EFA-58E1-4A9E-B2F5-1349CD5E3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52EA-DA17-4264-AC7C-E1A97183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13601-AE05-4C53-809B-9ABA3ADE6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3308AA-032A-4CD9-9B0D-17AA44F0B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D5BD08-5719-4949-BAC9-1963BB48B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234D9D-D630-4F69-86D1-A5F1C5786F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4283A-A771-4B01-8405-EC8B228A3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3AD52-B291-4BDC-9150-D1E0C54DD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DFC78-B900-4F37-A406-659FA9240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674C0-CE45-4B20-A12F-6E2351DE4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4017B-8CB8-4914-B045-9D47B30DE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F9C87-3F64-4216-A598-8B66279C0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12A8-D8B7-49EE-AD3A-31D39047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BDB77-2D2F-43FB-9200-ADA334D7E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D09D6-266C-40E6-8B52-DC1ED99A1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97C60-D7F1-4D8B-97C7-66231BC16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64D8B-5806-4FE3-8CC1-92EF229A30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52644-F3EA-4E6D-A6FF-76038427D1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DECC08-53F1-4728-B754-EB81DBF8C0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F369C-8A0D-4E3A-9C59-8D490E2A0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60EA3-635D-4995-9859-480C0B99C1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567D3-352D-4256-9274-D786F5EF8E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0ECE3-E17A-466B-A79A-47DA0CF35A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9B95-3E3E-4FC4-A2DF-D339FCDCA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2714A-9A81-4DB9-AE91-5DEB5E086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69BA3-5148-4F8B-B46C-7B81C581E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1B35E-6BE9-484C-8ED8-2EFEA4860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CA510-F82E-4EA5-B281-C7BBD75C3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B5279-38FB-4FDF-96E2-FAD555B9F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AA1885-B4CF-4073-B923-92910DCB5A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1EDECE-103F-4A08-A6A8-F7A1DC9E11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87CF52-7528-4692-B5E3-CECBCB96E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12B22-7F92-4650-AC3A-78A7E01553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494EF-0FB6-4198-AF5A-2FF129FA4F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57BF-3EC4-47CC-A08D-AE9F26125EC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0FCB-F2D4-48E1-83A7-2A1E0D5AF2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88FE-EC4A-4083-9A12-0D892C69A7C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30CF-8910-404D-AC2F-1851121E228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8D52-C170-4262-A507-D90B39A47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2C64-50C5-44ED-9338-BF51723C795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922E-1D33-4A90-9AEF-A6064F95D8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2B12-5F92-4FF2-9BC1-1C33B26069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A56B-7C5E-440C-9043-D53DFA915C0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528F-D978-40BB-9FC7-AAA7A74E623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DD40-F94B-4596-8B7B-78D721CA5D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9DF5-8DC1-4493-B7EA-713D2494BF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3FD1-64E5-4FF0-B34B-3A61B86E2DC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773280"/>
            <a:ext cx="8353440" cy="50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4920" y="1937880"/>
            <a:ext cx="828036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0920" y="1076400"/>
            <a:ext cx="8064360" cy="43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394920" y="1711440"/>
            <a:ext cx="8064360" cy="265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394920" y="1482840"/>
            <a:ext cx="820908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90440"/>
            <a:ext cx="9144000" cy="6551640"/>
            <a:chOff x="0" y="190440"/>
            <a:chExt cx="9144000" cy="6551640"/>
          </a:xfrm>
        </p:grpSpPr>
        <p:grpSp>
          <p:nvGrpSpPr>
            <p:cNvPr id="692" name="Ομάδα 1"/>
            <p:cNvGrpSpPr/>
            <p:nvPr/>
          </p:nvGrpSpPr>
          <p:grpSpPr>
            <a:xfrm>
              <a:off x="0" y="190440"/>
              <a:ext cx="9144000" cy="6551640"/>
              <a:chOff x="0" y="190440"/>
              <a:chExt cx="9144000" cy="6551640"/>
            </a:xfrm>
          </p:grpSpPr>
          <p:sp>
            <p:nvSpPr>
              <p:cNvPr id="693"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360" y="9446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547640" y="2276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539280" y="1472760"/>
            <a:ext cx="82090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539640" y="1510920"/>
            <a:ext cx="792000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611280" y="1701720"/>
            <a:ext cx="8277120" cy="446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394920" y="2465280"/>
            <a:ext cx="820908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611280" y="1628640"/>
            <a:ext cx="8277120" cy="4464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4920" y="2033280"/>
            <a:ext cx="82090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971640" y="1603080"/>
            <a:ext cx="7488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394920" y="2249280"/>
            <a:ext cx="8064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539280" y="1819080"/>
            <a:ext cx="820908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1042920" y="1819080"/>
            <a:ext cx="7416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1042920" y="2033280"/>
            <a:ext cx="7416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971640" y="2465280"/>
            <a:ext cx="763272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Ομάδα 1"/>
          <p:cNvGrpSpPr/>
          <p:nvPr/>
        </p:nvGrpSpPr>
        <p:grpSpPr>
          <a:xfrm>
            <a:off x="0" y="115920"/>
            <a:ext cx="9144000" cy="6551640"/>
            <a:chOff x="0" y="115920"/>
            <a:chExt cx="9144000" cy="6551640"/>
          </a:xfrm>
        </p:grpSpPr>
        <p:grpSp>
          <p:nvGrpSpPr>
            <p:cNvPr id="863" name="Ομάδα 1"/>
            <p:cNvGrpSpPr/>
            <p:nvPr/>
          </p:nvGrpSpPr>
          <p:grpSpPr>
            <a:xfrm>
              <a:off x="0" y="115920"/>
              <a:ext cx="9144000" cy="6551640"/>
              <a:chOff x="0" y="115920"/>
              <a:chExt cx="9144000" cy="6551640"/>
            </a:xfrm>
          </p:grpSpPr>
          <p:sp>
            <p:nvSpPr>
              <p:cNvPr id="8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9 - Εικόνα" descr=""/>
          <p:cNvPicPr/>
          <p:nvPr/>
        </p:nvPicPr>
        <p:blipFill>
          <a:blip r:embed="rId3"/>
          <a:stretch/>
        </p:blipFill>
        <p:spPr>
          <a:xfrm>
            <a:off x="250920" y="333360"/>
            <a:ext cx="1417680" cy="879480"/>
          </a:xfrm>
          <a:prstGeom prst="rect">
            <a:avLst/>
          </a:prstGeom>
          <a:ln w="0">
            <a:noFill/>
          </a:ln>
        </p:spPr>
      </p:pic>
      <p:sp>
        <p:nvSpPr>
          <p:cNvPr id="870" name="PlaceHolder 1"/>
          <p:cNvSpPr>
            <a:spLocks noGrp="1"/>
          </p:cNvSpPr>
          <p:nvPr>
            <p:ph type="title"/>
          </p:nvPr>
        </p:nvSpPr>
        <p:spPr>
          <a:xfrm>
            <a:off x="755640" y="1483920"/>
            <a:ext cx="7812000" cy="411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492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11600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2985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052280"/>
            <a:ext cx="8208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07560"/>
            <a:ext cx="84247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50560" y="1052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3200"/>
            </a:br>
            <a:br>
              <a:rPr sz="3200"/>
            </a:br>
            <a:br>
              <a:rPr sz="1800"/>
            </a:br>
            <a:br>
              <a:rPr sz="18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23" name="Picture 9" descr=""/>
          <p:cNvPicPr/>
          <p:nvPr/>
        </p:nvPicPr>
        <p:blipFill>
          <a:blip r:embed="rId1"/>
          <a:stretch/>
        </p:blipFill>
        <p:spPr>
          <a:xfrm>
            <a:off x="0" y="0"/>
            <a:ext cx="9144000" cy="1368360"/>
          </a:xfrm>
          <a:prstGeom prst="rect">
            <a:avLst/>
          </a:prstGeom>
          <a:ln w="0">
            <a:noFill/>
          </a:ln>
        </p:spPr>
      </p:pic>
      <p:pic>
        <p:nvPicPr>
          <p:cNvPr id="1224" name="Picture 10" descr=""/>
          <p:cNvPicPr/>
          <p:nvPr/>
        </p:nvPicPr>
        <p:blipFill>
          <a:blip r:embed="rId2"/>
          <a:stretch/>
        </p:blipFill>
        <p:spPr>
          <a:xfrm>
            <a:off x="1258920" y="2060640"/>
            <a:ext cx="1297080" cy="1528560"/>
          </a:xfrm>
          <a:prstGeom prst="rect">
            <a:avLst/>
          </a:prstGeom>
          <a:ln w="0">
            <a:noFill/>
          </a:ln>
        </p:spPr>
      </p:pic>
      <p:pic>
        <p:nvPicPr>
          <p:cNvPr id="1225" name="12 - Εικόνα" descr=""/>
          <p:cNvPicPr/>
          <p:nvPr/>
        </p:nvPicPr>
        <p:blipFill>
          <a:blip r:embed="rId3"/>
          <a:stretch/>
        </p:blipFill>
        <p:spPr>
          <a:xfrm>
            <a:off x="6948360" y="1989000"/>
            <a:ext cx="1444680" cy="1573200"/>
          </a:xfrm>
          <a:prstGeom prst="rect">
            <a:avLst/>
          </a:prstGeom>
          <a:ln w="0">
            <a:noFill/>
          </a:ln>
        </p:spPr>
      </p:pic>
      <p:sp>
        <p:nvSpPr>
          <p:cNvPr id="1226"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1484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0:15Z</dcterms:modified>
  <cp:revision>169</cp:revision>
  <dc:subject/>
  <dc:title>Παρουσίαση του PowerPoint</dc:title>
</cp:coreProperties>
</file>